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61801AC-3739-43A5-B9CC-731C5548A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F4D-A07B-4B77-B266-FFD27219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C86-840F-4A3E-BD40-08C443FC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896-F5B2-4D7B-B551-718640A9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67C-C66E-403C-8A53-5007683B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322A-CC01-484F-B3C3-EDE8026B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64DE-D797-41AE-B5FC-AEDF495F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9D7B-0B72-4EB3-AF35-8460683D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1FD0-51E3-43CA-B1ED-38FFDBE7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4C0B-68BE-4E56-963B-AF71027B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FE36-6AC5-4490-8C3B-F5A54B97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7C96-C9FB-489B-A5D3-F62EADFB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4D9-EA29-4AA5-8347-D60954FB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1697-BD7C-448C-818F-7BD550DF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5520-10C3-432C-89FD-69685D97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CBDD-7E77-40B7-A923-01009B66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6B00-E5FE-4116-AFD6-3D455DB4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3A1B-E814-4FE3-BB48-9BED624F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6A7-D249-4D24-8E98-9B89A328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06D-7582-4A16-80F8-6D4CC944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299-467A-41F9-8C52-D0462098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55A-9D10-44B9-8067-B7ECA1E1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A99-3E4D-4829-B5E2-B2413A7A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0F8-61C3-41BF-BE6D-C3399DB4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88F-AB06-46A8-855B-29666C19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68EF-462D-4AD9-98DD-6887037F82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7F8D-01E0-4661-965A-2B07A41EAA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Broadway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330033"/>
                </a:solidFill>
                <a:latin typeface="Broadway"/>
              </a:rPr>
              <a:t>Monday, October 18, 2010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008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as the BEST part about fall br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HW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on 2.1, probl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Broadway"/>
              </a:rPr>
              <a:t>Geometry 1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Broadway"/>
              </a:rPr>
              <a:t>Tuesday, October 19, 2010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l Work:  Write a conditional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HW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/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s and Biconditional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:  Lesson 2.2, problems 3-19 ,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Z on Thursday, Section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roadway"/>
              </a:rPr>
              <a:t>Geometry 1</a:t>
            </a:r>
            <a:br>
              <a:rPr sz="4800"/>
            </a:br>
            <a:r>
              <a:rPr b="0" lang="en-US" sz="3600" spc="-1" strike="noStrike">
                <a:solidFill>
                  <a:srgbClr val="330033"/>
                </a:solidFill>
                <a:latin typeface="Broadway"/>
              </a:rPr>
              <a:t>THursday, October 21, 2010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008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l Work:  Write the contrapositive:  If it thunders, then the golf tournament is cance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Z- (2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c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s of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:  Lesson 2.3, problems 1-13, 14-20 Even, 21-22,30-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roadway"/>
              </a:rPr>
              <a:t>Geometry 1</a:t>
            </a:r>
            <a:br>
              <a:rPr sz="4800"/>
            </a:br>
            <a:r>
              <a:rPr b="0" lang="en-US" sz="4000" spc="-1" strike="noStrike">
                <a:solidFill>
                  <a:srgbClr val="330033"/>
                </a:solidFill>
                <a:latin typeface="Broadway"/>
              </a:rPr>
              <a:t>Thursday, October 21, 2009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 work:  Write the symbols for a conditional , converse, inverse and contrapositive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- Lesson 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 MON-Lesson 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 Unit 3 (Lesson 2.1-2.3)-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0-19T21:22:25Z</dcterms:modified>
  <cp:revision>54</cp:revision>
  <dc:subject/>
  <dc:title>Slide 1</dc:title>
</cp:coreProperties>
</file>